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C8D2-76DC-429B-A5A2-FAE53663E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C608-1A75-49CA-8B38-AE79D87B7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453C57-0FFB-4258-83D3-56D0D29AD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7E6A9B-2624-47C6-9CB0-5F72AC7A3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40B820-D35B-43E7-B1D2-53E3A9066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1EEBBD-88FC-4878-8DB9-E172E823F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75F3EB-02A8-400A-8E3A-3D5F68B1A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20D592-255F-4BD3-A2B1-8AD5774A3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41F6FE-889E-4047-B5BA-0C33BF91D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9C1EA2-0E75-462E-98BB-82A1976D1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3EE6B2-381A-49AF-8CFB-DF0BFF731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C3BEFC-05E9-4957-8259-FBAB79A18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B525-3FDD-459F-BA81-56F6F303F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247830-0257-4365-9A33-97F672007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989CF1-DC97-4152-A193-9A1584479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91CE07-1F71-44D2-A99A-88BC7DD81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6DFE58-5DA3-4515-B685-F687BEEEC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C11F2A-BA2E-401C-A2CC-578406FE8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70CB67-B22C-46C7-BB54-FFE13F6CF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91857C-0841-4E5B-A697-903531367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51F7EE-9314-4E3C-95C9-40E321A1B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6A750A-DE90-488F-9211-9C725F594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5A930D-D6C6-47D7-B8C2-6C84C749A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AF3E-D94D-4C3D-A823-CA6721C1E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8391A8-AC16-4969-AFAD-D290038F8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AB1987-BBE4-438A-AF43-49AB6C6C2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126B44-BFEA-4514-9D9E-E4BA380E6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A61595-2901-419C-BE5A-B3120C78D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FFB62F-C5A9-4A52-8EC9-882E27C51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93CCD9-7235-4115-8A18-0FA98CF06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8AF42E-4D19-4885-8C36-D9EC00F8E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7CF204-7FA7-4084-996F-38F8FEDBF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21594C-B9FF-4E0B-B39F-E5A475512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782CD6-7BCF-4D3E-A851-E58B55793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B6A46-7C59-4CA4-AB98-B12844334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56304B-67AE-4D91-949E-0EB27B77A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DEFDF1-6350-4DEB-8F37-5A98E0307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427B76-C747-45F7-888D-4217EAC5C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B355FC-F326-41DC-BC3C-95779E37C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0B839B-DE00-4CE1-B576-212DFFE10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35F257-5360-426F-B068-833AFC9A1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E94B7F-AB79-4EF1-8AA6-E65E75CF5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4A46BF-A965-4F2F-851D-A2ACE6DCA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165069-7C91-4F23-AA0A-258A8D81E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FF31CF-93C1-44D4-B9DB-FC6649CBA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4C455-6772-46D3-BDE3-5B2DC1813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D537BA-B3D5-4785-9DF4-4E1B992F5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BCA2AC-E8B5-47A2-BEBC-9A6D97BF0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866CB3-70C6-4B0C-938C-EB0C6BD4F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F621B7-7F9E-4C2F-A016-E092B81DD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C567B8-9E65-4296-9D91-A4F1E5C38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62D45F-075F-4B41-82CD-B85A03D46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F2067F-D038-4D8B-8D81-E14271B2C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EB5A7C-3E92-4F47-9C15-518626EAF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E51149-7112-4AB8-AEE6-B4D6DFF84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5956AE-6DA7-41F6-A879-9A5D0CBC9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AB548-2E6A-4E40-A6C7-2EB97F050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384500-758E-4775-88E2-A0DAC7792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F278B0-6BEB-41BC-9216-36BFA2DBE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E3AF60-BAC4-4705-9B9B-C65CBD004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23B510-98AE-4840-8B76-C81E5B916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3CAD89-869C-4D3D-9F4E-0C4A9CD36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869A52-300B-42BB-803E-DA5982379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D95B66-AF98-42D2-ABA1-2F82EC0C9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0FB1C4A-C820-4545-9987-E70ECEEF6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3A6D1E-C5E1-4328-93BD-70D9A2ECB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3D82883-F51A-4018-A5D9-11CF7D6FA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2E0B9-E5D7-42EA-9A6D-78F84B16E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0770B79-2FA7-4418-9906-085A3AB83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104713-945D-48AC-AEF8-D42B8E8BF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5DCE97-8DFC-44D7-BD4A-EAFCE47EE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2ED67F-3F41-4B6A-B67E-241F5E7E9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9D78C0-E5E4-4C46-95E6-9A502BFEC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756E0FA-3959-48ED-9ECD-DD050C7A1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018DFE-14D6-4F5B-9AC8-7A5AE90D1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91F4B2-3CD1-49DD-B211-5C2B00DFE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1EC9AC9-3598-415F-A0CE-32BA3ED9E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9C42AC7-B418-41D2-ACB7-7A67ABC9F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4FE1D-7845-49AA-8D5A-14B9AEDCD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D76BC5A-8A1B-42F7-A4B7-8EFF58B63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6116214-DE7D-492F-BC19-139EB53CB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43A9DE5-DFF1-4443-AD11-A06E8E01A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BA6E7CB-B2C1-492F-8109-257082124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D9A0E35-CB97-45EE-B2B3-D9EF2E8D9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2F3E239-958A-4286-BB46-6D600CA56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0558668-FDCA-45BF-A38D-B71C1A68F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1F475DE-674F-4AF3-988D-6E3939E60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61CEE55-2659-4CD6-988F-9ED379D8C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CBD13A3-0851-4B2F-9559-6F77AC2F2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F354D-FABC-4E5C-9A1C-597A9461E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81C434B-6FA5-43D9-B450-3E847D7E6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0602EB0-0AEA-4CD8-98CF-D9691C711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07AEAAE-F16C-4AD8-8EB1-0BF320E48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6121802-A2F6-4B58-AE65-45712BC44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8B261AF-6D42-4A9D-A72C-6F5D3BA75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DCA723D-8C8D-4201-8969-56AA15B96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FF12A46-F226-4C11-8AF3-65310175F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99CFD4E-B26F-48EC-B710-F265DFA47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46F0AA5-B4D9-45E8-BED9-9BCD4A477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D17CD61-4D43-4DD2-8C9A-1D65DA25E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BC69F-F445-4963-96AA-B232E67DE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90725F9-7326-4646-BA31-F5D03AD38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3EABE96-ED9D-45A5-BCBC-CD570DF74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E6555F3-D231-40A4-9123-D3767DA79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083C28E-4F39-4D36-ABDC-408E4EF28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4B15BA5-5C91-434C-A290-5E9B94D82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8193F9E-E3DF-4689-8CF7-6B80CC5A3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A2881FD-E4DE-489D-ACAC-C314054CB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6852811-5E9A-44F1-9812-6E400D065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4E83EAA-831C-4665-AA6C-122114B43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A369AFA-CA59-4491-A6F3-C6A724770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E77A-37A6-4260-A6EF-E53C2ED0D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407C5-B607-4A35-9816-2E5A5F40E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4821AD2-A48C-4B9E-85AC-29021A723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A1E02F4-A32B-41F8-AA52-4D20F605E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05C4C37-195D-4037-B0F0-A452817AE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51D8E51-455D-41F8-93A0-9D4A53A2B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8F20BD3-6C0C-42A6-82B1-CFB9A4DF9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2A3A6ED-D29E-49C5-B786-BA8896A58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75FC68E-6145-47A8-949B-ED61B1E18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01CC516-ED9D-486A-8C99-F13719BCA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D269B4C-62F3-41CE-BE20-58F668F2B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64F182C-62D5-45B0-BF34-2198355B1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337D6-2BA1-4F52-B703-7D31A420A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81C1691-B53A-42D9-A8C1-C524CC007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550B7BA-3761-42F0-B8F2-54E08B078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E49D3D8-318E-45A5-B5D2-E855FAEB6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E19EA5C-AC2A-49A7-9F18-122743354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E9886EB-31D0-4B23-BC12-FBFFA96B7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B65CABF-D904-4653-8947-0E7730628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09D13F7-3AF7-4544-9F36-3A9E189C0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65DBAB2-6085-4E8F-9F49-AB0C9C017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9FD57ED-C161-41FE-A2EB-A0E6C6988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8FD3F48-163A-4ED4-BEE5-BC5944F69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8ED8E-13E8-412A-ABDC-96515B77C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3A47426-415E-47A9-920A-B2805E53B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706F480-A1D8-4049-BACA-98F8465FC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778A5A0-20C6-42A6-9871-50BD64786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1A5F8E2-EBA6-4C59-AFD2-AD2D08D8D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46EB1D8-25C2-48D2-BE43-979D08B45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E1F70C1-6511-4CE2-8762-CBA4B31E6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F413F91-F18B-4AE2-B19B-81D19E26E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5EAF28A-C19C-486E-B428-2EA9288B8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A3CE1EB-C997-4E7A-B608-E4C266B63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6BAF2E5-F8BE-4D01-A944-AD5B07E3E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B3968-1ADE-44B4-894F-C2EF944C8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D910F9C-936D-4A84-A38E-B87970B59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FA5925C-1A13-47A5-8B67-3B5572C89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96F2CF3-6607-4492-9C19-E220702AC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86C391D-7C7B-43F2-B800-670D0A383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411F77A-1BBC-4656-A5F6-1189487D7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CA843A0-FE43-40F6-82D9-A902E2160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2FF140F-09AB-4FE2-9936-A5D911C81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D38DEF2-E3D4-4895-8B50-E5DD1A7D8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7F2EC68-8763-4C9A-BE7A-EB27E0094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64659D6-794C-4551-A798-65DF814D2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0D2DF-DC26-40B8-A0F9-A74E112B1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281B5EE-ABAC-4599-9BB4-AC41536F8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1B0FFDE-88AB-4420-836D-1FE6744DF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A4B757F-C679-42A7-ABEF-CE9694738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3251050-E4E9-4330-A1BE-4F2D93950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D8E9518-A71C-4B39-824F-AEC1A4E4F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03E4C48-89C9-4EB1-A7AD-EF7115D75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3336E3D-67C1-42A3-88CD-B9FAC247C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661D8DC-6EF1-43F6-873D-0E639F368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783C367-6BD4-4F76-969A-47E9014DB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6C94827-02F8-4AFB-B52F-55533D3B8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AADCAD-4E6C-4947-BF50-0D024CE2D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E8202DE-FFA1-49E9-A6D1-5E1AF3BE1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A50187C-56C4-4752-989C-4F53BD4E1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8B6268C-D4F7-4658-A2DE-083F3C13B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577EE8-7E71-4945-BC1F-0D2E3A362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C7322A-8F08-4677-B2FF-AE45AF523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196ED5-3274-4968-94DD-8DCADDD58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DCBCCA-4945-47D2-A3E8-E7E767C71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8F50-9498-41B4-B06C-8B100AE5C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4B98A3-D903-4FB2-BBB5-0FCD4F823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084350-6D5F-4A5A-A0E0-CBEDF4A31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89459C-2C37-4819-95FA-7BE6CF1A1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4FA779-33F2-45C8-BA65-ACC446DAB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B942AB-7135-4424-8B59-773D93FD4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D98B8C-CC84-4665-94E0-D8204E83E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29B294-7437-4608-A83C-6E26A011C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5CE1AC-5956-4286-98E8-404A3BF77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DEE05B-82BE-4044-BB12-230964EB8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882D95-930A-452A-BEFE-DD4A43099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E9CF-B108-4A11-B027-EFEF3CBA3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9A7D4C-9A1D-4D9A-804E-61CC87815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A04B14-2B7B-4317-9F8B-3FE6C8ACF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DC925F-3374-4858-AFC5-E09CBBA01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257A6B-4FA0-41C3-A3B2-B806F6F39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449292-8552-4427-909C-F8EBCB408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65EBAF-49AD-45C4-BD28-4C32A347E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0579A9-2BA0-44D6-99AF-60C032DD2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049E48-EF84-4593-A2A0-1E36C78DF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26EE56-BE00-4859-80DC-218DC40F9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97853B-C2C9-4938-89FF-38CC7E900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A3B9-8B21-4B58-803D-3AD67907C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48CBDA-0BEE-474F-B7E8-9FEBA408B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7F8FF3-64BE-4C09-B7B2-991A36005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992DD1-FBC6-4ADB-857F-3DEE73272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9C4262-4664-4EE5-B616-A6E43C2E2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F09AB2-3C5E-4F5A-B36A-368D4F9BC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8DD9FC-2B2F-436E-AF44-AC58DFE1B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41E816-2EE4-4E84-9F67-9CBDF2688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E16D95-5776-4C6F-B878-F3267350F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F5150B-DC2C-43D3-986A-488602A7F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F70270-BECE-43CA-ACE9-1F2D159C4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D106-FABB-409C-A108-68FDA03B6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33814E-4D83-4CB6-97A4-B2E31A684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7CDCE1-1FB6-4CB9-8F72-722FBF6D8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C56866-B19A-4320-986C-30CFB5B05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A7D124-EB9D-4941-8BC9-62C44CFC4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5C0A44-6CCC-48CF-8B91-10FD917EA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A70BCA-53A9-4964-8962-C9D3219A5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93813F-EE3E-4311-AF98-65048F6D9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A02069-E02F-4E8B-BAC2-00B5F656B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7FD4F5-6538-4CDA-BFC0-829BDCE17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C2BF3B-B426-4C4F-A4A5-703D3A67A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7168-AD30-444D-9964-C6FD035E5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E82E2A-BF24-4C5C-AC0E-115273216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F9FC6E-95A5-4F79-BB88-088A3F2EE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5645D2-3B32-4D82-80DA-F639424C2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1A699B-83CB-47C2-896C-615DA3750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610FEF-DF04-4669-AEEB-F5215DE28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DF1A40-93FB-4EC3-87EE-91DA74A31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86BBE7-AA2C-4CE5-9D69-0754D5D1D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9E4034-3A7D-4F21-800E-83F2AAE60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B1148F-81C4-4394-8D4D-EC14CFBFC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7AC68E-5806-4A1A-A13B-8AF1AE7A7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9ED9-5D67-47A2-912D-32589DCD3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35106D-02DF-4FEC-92AF-124F4CE31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69D43F-AABA-4932-A797-AB0393445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7D1493-31AD-45E4-BC22-9312FCE07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FBF17D-B1E6-4395-96F7-BA7137AFC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0F8914-69D4-4D8E-8728-699B287A5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0D2C6A-8C99-40A5-B7BF-E93C03C5A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AC1BD0-680D-4D30-B2FA-394018806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2ACF50-417E-4891-AD7B-134A2228B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63E77C-2840-4C53-810A-75EFC081A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E96B95-759E-4A35-9AD2-32AFD339B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0337-3872-43BA-B508-3E08EDC7B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E232E1-1A1F-4250-B56D-2335EE937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FF1ED2-B4A1-47EB-9D2E-0A2EAC471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1544E7-FF1F-42D5-AC65-84909B57B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015A71-B771-4DD6-87E6-BBEA9E9C8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F234A2-B5F5-40D3-9197-B92112505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79681B-0CF8-47D7-89AF-9922D6635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C36893-9EAE-45F4-89ED-C88415D18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3F91D2-AFCC-4DD5-AE48-03EC7D050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AC8D61-59F3-47B3-967A-DC5B64087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95D5A8-F80F-4C15-9194-42A801231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4BD01-4C9C-4CF0-AB63-4BE347A75C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AECA2-2CC4-4040-A019-5BE8DD617B0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2A5FC-E095-4A73-AA8C-0C58C0F7266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9B874-37AA-463B-B6D0-6A98FA2211F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EF508-BB1B-4723-B490-89739C97316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E27E9-D3E3-4BFB-8ACE-569847BEEF1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D80E9-7BED-4B39-8825-96618DF5F81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139C7-18FD-4456-8180-75896146055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64D32-9D55-4F20-B458-4E85424C7AF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B3819-5EEA-44EB-BA99-68EC88C51E2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95B3A-E2E8-4DD2-B2B9-E61B24E28C7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099EE-A38B-45DB-8273-99D15142320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9A4BB-E830-4D9B-8FDB-E388472AB16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FB2C4-2888-42B3-83F0-099BD41BF98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5AEE2-61E0-4239-9965-B7EB4104A65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EAFA9-2786-4EA9-B752-A2902CAEE95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39D93-E52D-468E-B3C5-E52AEC67CD4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00E11-2114-4F3C-A8EB-E8C2342AF6C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49F60-EDE0-4956-8816-A242F2AB577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FA13C-88AE-46F4-BD08-89E65C038DF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F9D6A-402C-4A52-BCF1-19A9BCBB1A0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6A9C8-2225-48C7-937D-11E453E89B0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88E69-ED29-4B68-8CD9-25EDC3C1F1B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3A41D-9EB3-47A1-8A2A-D82E6D6A71A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E818E-8711-45F0-BACF-A70F27456F8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F505C-AF5D-4672-9893-B927990C9A5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655F5-240E-4B10-AF3D-6D670B04290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5B9D6-68DF-4130-AC8A-D47134EF95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FAD8A-F049-4692-8F53-C299BB3A4D0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6C0C7-F9FB-41EF-9286-49E096B788C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EC200-6E28-4D6B-A330-0AACF6F591D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63402-82E2-4DE1-9FB0-276FA7C10E3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1737B-F209-4E9C-8DBA-B1FE02E4DE6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E5A15-8285-4973-9281-FFAC24D766F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1B875-408D-45EF-B1AC-BAD8D595CF9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BB93D-A7F2-4780-848B-F036DAA0E7E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FC7F7-C36C-430E-975E-27EDB7C6DE7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7B941-F624-4747-910C-0F6919FC43C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CEA3F-77C2-4B5D-97CF-CA73763B263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2190A-92E2-4C3D-A8C3-FCA439D498F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4" name="图片 1" descr=""/>
          <p:cNvPicPr/>
          <p:nvPr/>
        </p:nvPicPr>
        <p:blipFill>
          <a:blip r:embed="rId1"/>
          <a:stretch/>
        </p:blipFill>
        <p:spPr>
          <a:xfrm>
            <a:off x="2714760" y="3057480"/>
            <a:ext cx="37144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7" name="Picture 1" descr=""/>
          <p:cNvPicPr/>
          <p:nvPr/>
        </p:nvPicPr>
        <p:blipFill>
          <a:blip r:embed="rId1"/>
          <a:stretch/>
        </p:blipFill>
        <p:spPr>
          <a:xfrm>
            <a:off x="1979640" y="81000"/>
            <a:ext cx="388800" cy="304920"/>
          </a:xfrm>
          <a:prstGeom prst="rect">
            <a:avLst/>
          </a:prstGeom>
          <a:ln w="0">
            <a:noFill/>
          </a:ln>
        </p:spPr>
      </p:pic>
      <p:pic>
        <p:nvPicPr>
          <p:cNvPr id="1028" name="图片 1" descr=""/>
          <p:cNvPicPr/>
          <p:nvPr/>
        </p:nvPicPr>
        <p:blipFill>
          <a:blip r:embed="rId2"/>
          <a:stretch/>
        </p:blipFill>
        <p:spPr>
          <a:xfrm>
            <a:off x="76320" y="1081080"/>
            <a:ext cx="8991360" cy="469584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3"/>
          <a:stretch/>
        </p:blipFill>
        <p:spPr>
          <a:xfrm>
            <a:off x="1403280" y="263700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4"/>
          <a:stretch/>
        </p:blipFill>
        <p:spPr>
          <a:xfrm>
            <a:off x="3059280" y="263700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5"/>
          <a:stretch/>
        </p:blipFill>
        <p:spPr>
          <a:xfrm>
            <a:off x="4716360" y="259380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6"/>
          <a:stretch/>
        </p:blipFill>
        <p:spPr>
          <a:xfrm>
            <a:off x="6443640" y="259380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7"/>
          <a:stretch/>
        </p:blipFill>
        <p:spPr>
          <a:xfrm>
            <a:off x="8101080" y="265104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8"/>
          <a:stretch/>
        </p:blipFill>
        <p:spPr>
          <a:xfrm>
            <a:off x="1332000" y="430704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1" descr=""/>
          <p:cNvPicPr/>
          <p:nvPr/>
        </p:nvPicPr>
        <p:blipFill>
          <a:blip r:embed="rId9"/>
          <a:stretch/>
        </p:blipFill>
        <p:spPr>
          <a:xfrm>
            <a:off x="3117960" y="4253040"/>
            <a:ext cx="360360" cy="39996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1" descr=""/>
          <p:cNvPicPr/>
          <p:nvPr/>
        </p:nvPicPr>
        <p:blipFill>
          <a:blip r:embed="rId10"/>
          <a:stretch/>
        </p:blipFill>
        <p:spPr>
          <a:xfrm>
            <a:off x="4716360" y="4292640"/>
            <a:ext cx="360360" cy="39996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11"/>
          <a:stretch/>
        </p:blipFill>
        <p:spPr>
          <a:xfrm>
            <a:off x="6443640" y="4292640"/>
            <a:ext cx="360360" cy="39996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12"/>
          <a:stretch/>
        </p:blipFill>
        <p:spPr>
          <a:xfrm>
            <a:off x="8101080" y="4292640"/>
            <a:ext cx="36036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1" name="图片 1" descr=""/>
          <p:cNvPicPr/>
          <p:nvPr/>
        </p:nvPicPr>
        <p:blipFill>
          <a:blip r:embed="rId1"/>
          <a:stretch/>
        </p:blipFill>
        <p:spPr>
          <a:xfrm>
            <a:off x="539640" y="1827360"/>
            <a:ext cx="7993080" cy="288288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1" descr=""/>
          <p:cNvPicPr/>
          <p:nvPr/>
        </p:nvPicPr>
        <p:blipFill>
          <a:blip r:embed="rId2"/>
          <a:stretch/>
        </p:blipFill>
        <p:spPr>
          <a:xfrm>
            <a:off x="1332000" y="242100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1" descr=""/>
          <p:cNvPicPr/>
          <p:nvPr/>
        </p:nvPicPr>
        <p:blipFill>
          <a:blip r:embed="rId3"/>
          <a:stretch/>
        </p:blipFill>
        <p:spPr>
          <a:xfrm>
            <a:off x="1403280" y="285264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1" descr=""/>
          <p:cNvPicPr/>
          <p:nvPr/>
        </p:nvPicPr>
        <p:blipFill>
          <a:blip r:embed="rId4"/>
          <a:stretch/>
        </p:blipFill>
        <p:spPr>
          <a:xfrm>
            <a:off x="1332000" y="335772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1" descr=""/>
          <p:cNvPicPr/>
          <p:nvPr/>
        </p:nvPicPr>
        <p:blipFill>
          <a:blip r:embed="rId5"/>
          <a:stretch/>
        </p:blipFill>
        <p:spPr>
          <a:xfrm>
            <a:off x="1332000" y="380376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1" descr=""/>
          <p:cNvPicPr/>
          <p:nvPr/>
        </p:nvPicPr>
        <p:blipFill>
          <a:blip r:embed="rId6"/>
          <a:stretch/>
        </p:blipFill>
        <p:spPr>
          <a:xfrm>
            <a:off x="1332000" y="4292640"/>
            <a:ext cx="36036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9" name="图片 1" descr=""/>
          <p:cNvPicPr/>
          <p:nvPr/>
        </p:nvPicPr>
        <p:blipFill>
          <a:blip r:embed="rId1"/>
          <a:stretch/>
        </p:blipFill>
        <p:spPr>
          <a:xfrm>
            <a:off x="49320" y="2200320"/>
            <a:ext cx="9045360" cy="245736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1" descr=""/>
          <p:cNvPicPr/>
          <p:nvPr/>
        </p:nvPicPr>
        <p:blipFill>
          <a:blip r:embed="rId2"/>
          <a:stretch/>
        </p:blipFill>
        <p:spPr>
          <a:xfrm>
            <a:off x="1403280" y="361332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1" descr=""/>
          <p:cNvPicPr/>
          <p:nvPr/>
        </p:nvPicPr>
        <p:blipFill>
          <a:blip r:embed="rId3"/>
          <a:stretch/>
        </p:blipFill>
        <p:spPr>
          <a:xfrm>
            <a:off x="2987640" y="358776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1" descr=""/>
          <p:cNvPicPr/>
          <p:nvPr/>
        </p:nvPicPr>
        <p:blipFill>
          <a:blip r:embed="rId4"/>
          <a:stretch/>
        </p:blipFill>
        <p:spPr>
          <a:xfrm>
            <a:off x="4859280" y="358776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1" descr=""/>
          <p:cNvPicPr/>
          <p:nvPr/>
        </p:nvPicPr>
        <p:blipFill>
          <a:blip r:embed="rId5"/>
          <a:stretch/>
        </p:blipFill>
        <p:spPr>
          <a:xfrm>
            <a:off x="6516720" y="361620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1" descr=""/>
          <p:cNvPicPr/>
          <p:nvPr/>
        </p:nvPicPr>
        <p:blipFill>
          <a:blip r:embed="rId6"/>
          <a:stretch/>
        </p:blipFill>
        <p:spPr>
          <a:xfrm>
            <a:off x="8244000" y="3587760"/>
            <a:ext cx="36036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5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grpSp>
        <p:nvGrpSpPr>
          <p:cNvPr id="1057" name="组合 7171"/>
          <p:cNvGrpSpPr/>
          <p:nvPr/>
        </p:nvGrpSpPr>
        <p:grpSpPr>
          <a:xfrm>
            <a:off x="324000" y="1220760"/>
            <a:ext cx="7832520" cy="3957840"/>
            <a:chOff x="324000" y="1220760"/>
            <a:chExt cx="7832520" cy="3957840"/>
          </a:xfrm>
        </p:grpSpPr>
        <p:pic>
          <p:nvPicPr>
            <p:cNvPr id="1058" name="图片 1" descr=""/>
            <p:cNvPicPr/>
            <p:nvPr/>
          </p:nvPicPr>
          <p:blipFill>
            <a:blip r:embed="rId1"/>
            <a:stretch/>
          </p:blipFill>
          <p:spPr>
            <a:xfrm>
              <a:off x="324000" y="1220760"/>
              <a:ext cx="7832520" cy="272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9" name="图片 2" descr=""/>
            <p:cNvPicPr/>
            <p:nvPr/>
          </p:nvPicPr>
          <p:blipFill>
            <a:blip r:embed="rId2"/>
            <a:stretch/>
          </p:blipFill>
          <p:spPr>
            <a:xfrm>
              <a:off x="820800" y="4165560"/>
              <a:ext cx="3606840" cy="1013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60" name="Picture 1" descr=""/>
          <p:cNvPicPr/>
          <p:nvPr/>
        </p:nvPicPr>
        <p:blipFill>
          <a:blip r:embed="rId3"/>
          <a:stretch/>
        </p:blipFill>
        <p:spPr>
          <a:xfrm>
            <a:off x="1116000" y="213372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1061" name="Picture 1" descr=""/>
          <p:cNvPicPr/>
          <p:nvPr/>
        </p:nvPicPr>
        <p:blipFill>
          <a:blip r:embed="rId4"/>
          <a:stretch/>
        </p:blipFill>
        <p:spPr>
          <a:xfrm>
            <a:off x="5076720" y="207504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1062" name="Picture 1" descr=""/>
          <p:cNvPicPr/>
          <p:nvPr/>
        </p:nvPicPr>
        <p:blipFill>
          <a:blip r:embed="rId5"/>
          <a:stretch/>
        </p:blipFill>
        <p:spPr>
          <a:xfrm>
            <a:off x="1042920" y="322740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63" name="Picture 1" descr=""/>
          <p:cNvPicPr/>
          <p:nvPr/>
        </p:nvPicPr>
        <p:blipFill>
          <a:blip r:embed="rId6"/>
          <a:stretch/>
        </p:blipFill>
        <p:spPr>
          <a:xfrm>
            <a:off x="5133960" y="322740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64" name="Picture 1" descr=""/>
          <p:cNvPicPr/>
          <p:nvPr/>
        </p:nvPicPr>
        <p:blipFill>
          <a:blip r:embed="rId7"/>
          <a:stretch/>
        </p:blipFill>
        <p:spPr>
          <a:xfrm>
            <a:off x="1116000" y="4494240"/>
            <a:ext cx="36036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7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2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7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2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67" name="图片 1" descr=""/>
          <p:cNvPicPr/>
          <p:nvPr/>
        </p:nvPicPr>
        <p:blipFill>
          <a:blip r:embed="rId1"/>
          <a:stretch/>
        </p:blipFill>
        <p:spPr>
          <a:xfrm>
            <a:off x="324000" y="1014480"/>
            <a:ext cx="8496000" cy="4829040"/>
          </a:xfrm>
          <a:prstGeom prst="rect">
            <a:avLst/>
          </a:prstGeom>
          <a:ln w="0">
            <a:noFill/>
          </a:ln>
        </p:spPr>
      </p:pic>
      <p:pic>
        <p:nvPicPr>
          <p:cNvPr id="1068" name="Picture 1" descr=""/>
          <p:cNvPicPr/>
          <p:nvPr/>
        </p:nvPicPr>
        <p:blipFill>
          <a:blip r:embed="rId2"/>
          <a:stretch/>
        </p:blipFill>
        <p:spPr>
          <a:xfrm>
            <a:off x="1042920" y="177336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1069" name="Picture 1" descr=""/>
          <p:cNvPicPr/>
          <p:nvPr/>
        </p:nvPicPr>
        <p:blipFill>
          <a:blip r:embed="rId3"/>
          <a:stretch/>
        </p:blipFill>
        <p:spPr>
          <a:xfrm>
            <a:off x="1042920" y="328464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1070" name="Picture 1" descr=""/>
          <p:cNvPicPr/>
          <p:nvPr/>
        </p:nvPicPr>
        <p:blipFill>
          <a:blip r:embed="rId4"/>
          <a:stretch/>
        </p:blipFill>
        <p:spPr>
          <a:xfrm>
            <a:off x="1042920" y="4724280"/>
            <a:ext cx="36036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9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4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9" dur="5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73" name="图片 1" descr=""/>
          <p:cNvPicPr/>
          <p:nvPr/>
        </p:nvPicPr>
        <p:blipFill>
          <a:blip r:embed="rId1"/>
          <a:stretch/>
        </p:blipFill>
        <p:spPr>
          <a:xfrm>
            <a:off x="723960" y="1967040"/>
            <a:ext cx="7696080" cy="2923920"/>
          </a:xfrm>
          <a:prstGeom prst="rect">
            <a:avLst/>
          </a:prstGeom>
          <a:ln w="0">
            <a:noFill/>
          </a:ln>
        </p:spPr>
      </p:pic>
      <p:pic>
        <p:nvPicPr>
          <p:cNvPr id="1074" name="Picture 1" descr=""/>
          <p:cNvPicPr/>
          <p:nvPr/>
        </p:nvPicPr>
        <p:blipFill>
          <a:blip r:embed="rId2"/>
          <a:stretch/>
        </p:blipFill>
        <p:spPr>
          <a:xfrm>
            <a:off x="1116000" y="234936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75" name="Picture 1" descr=""/>
          <p:cNvPicPr/>
          <p:nvPr/>
        </p:nvPicPr>
        <p:blipFill>
          <a:blip r:embed="rId3"/>
          <a:stretch/>
        </p:blipFill>
        <p:spPr>
          <a:xfrm>
            <a:off x="1116000" y="3789360"/>
            <a:ext cx="36036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6" dur="5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1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78" name="图片 1" descr=""/>
          <p:cNvPicPr/>
          <p:nvPr/>
        </p:nvPicPr>
        <p:blipFill>
          <a:blip r:embed="rId1"/>
          <a:stretch/>
        </p:blipFill>
        <p:spPr>
          <a:xfrm>
            <a:off x="81000" y="1781280"/>
            <a:ext cx="8980560" cy="3295440"/>
          </a:xfrm>
          <a:prstGeom prst="rect">
            <a:avLst/>
          </a:prstGeom>
          <a:ln w="0">
            <a:noFill/>
          </a:ln>
        </p:spPr>
      </p:pic>
      <p:pic>
        <p:nvPicPr>
          <p:cNvPr id="1079" name="Picture 1" descr=""/>
          <p:cNvPicPr/>
          <p:nvPr/>
        </p:nvPicPr>
        <p:blipFill>
          <a:blip r:embed="rId2"/>
          <a:stretch/>
        </p:blipFill>
        <p:spPr>
          <a:xfrm>
            <a:off x="1403280" y="3471840"/>
            <a:ext cx="1728720" cy="320760"/>
          </a:xfrm>
          <a:prstGeom prst="rect">
            <a:avLst/>
          </a:prstGeom>
          <a:ln w="0">
            <a:noFill/>
          </a:ln>
        </p:spPr>
      </p:pic>
      <p:pic>
        <p:nvPicPr>
          <p:cNvPr id="1080" name="Picture 1" descr=""/>
          <p:cNvPicPr/>
          <p:nvPr/>
        </p:nvPicPr>
        <p:blipFill>
          <a:blip r:embed="rId3"/>
          <a:stretch/>
        </p:blipFill>
        <p:spPr>
          <a:xfrm>
            <a:off x="5796000" y="3471840"/>
            <a:ext cx="1728720" cy="320760"/>
          </a:xfrm>
          <a:prstGeom prst="rect">
            <a:avLst/>
          </a:prstGeom>
          <a:ln w="0">
            <a:noFill/>
          </a:ln>
        </p:spPr>
      </p:pic>
      <p:pic>
        <p:nvPicPr>
          <p:cNvPr id="1081" name="Picture 1" descr=""/>
          <p:cNvPicPr/>
          <p:nvPr/>
        </p:nvPicPr>
        <p:blipFill>
          <a:blip r:embed="rId4"/>
          <a:stretch/>
        </p:blipFill>
        <p:spPr>
          <a:xfrm>
            <a:off x="1332000" y="3889440"/>
            <a:ext cx="1728720" cy="320760"/>
          </a:xfrm>
          <a:prstGeom prst="rect">
            <a:avLst/>
          </a:prstGeom>
          <a:ln w="0">
            <a:noFill/>
          </a:ln>
        </p:spPr>
      </p:pic>
      <p:pic>
        <p:nvPicPr>
          <p:cNvPr id="1082" name="Picture 1" descr=""/>
          <p:cNvPicPr/>
          <p:nvPr/>
        </p:nvPicPr>
        <p:blipFill>
          <a:blip r:embed="rId5"/>
          <a:stretch/>
        </p:blipFill>
        <p:spPr>
          <a:xfrm>
            <a:off x="5867280" y="3889440"/>
            <a:ext cx="1729080" cy="320760"/>
          </a:xfrm>
          <a:prstGeom prst="rect">
            <a:avLst/>
          </a:prstGeom>
          <a:ln w="0">
            <a:noFill/>
          </a:ln>
        </p:spPr>
      </p:pic>
      <p:pic>
        <p:nvPicPr>
          <p:cNvPr id="1083" name="Picture 1" descr=""/>
          <p:cNvPicPr/>
          <p:nvPr/>
        </p:nvPicPr>
        <p:blipFill>
          <a:blip r:embed="rId6"/>
          <a:stretch/>
        </p:blipFill>
        <p:spPr>
          <a:xfrm>
            <a:off x="1908000" y="4307040"/>
            <a:ext cx="1729080" cy="320400"/>
          </a:xfrm>
          <a:prstGeom prst="rect">
            <a:avLst/>
          </a:prstGeom>
          <a:ln w="0">
            <a:noFill/>
          </a:ln>
        </p:spPr>
      </p:pic>
      <p:pic>
        <p:nvPicPr>
          <p:cNvPr id="1084" name="Picture 1" descr=""/>
          <p:cNvPicPr/>
          <p:nvPr/>
        </p:nvPicPr>
        <p:blipFill>
          <a:blip r:embed="rId7"/>
          <a:stretch/>
        </p:blipFill>
        <p:spPr>
          <a:xfrm>
            <a:off x="6372360" y="4307040"/>
            <a:ext cx="1728720" cy="32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8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3" dur="5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8" dur="5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3" dur="5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8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3" dur="5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3:18:18Z</dcterms:modified>
  <cp:revision>38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